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3EC97-13F6-4572-9858-182FF981EB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6F4CF-5D5F-48C0-97C5-279D319E1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30F7A-C646-43A9-BF78-9E7821CB64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79965-32B3-44A9-8E88-A7F05C26AE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16EEC-BC1E-4FB9-BA7E-A50F1DDAA0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94B9D-D4FB-458C-9768-7E46B3493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5A5EF-CD88-448F-83E4-9A7845E500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5B3A5E0-1E09-4FFC-ACA2-D7F96011D7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AEFC02-D70E-4822-98B3-79074EDBD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0A8E8-65FE-4850-A080-B9E04848F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E3532-8F52-4CCB-A4DF-FDEEC577A3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688CD-C140-45A3-B3CA-4CF8241FC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7691-2A1F-4892-867F-EA187BAB6A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BD44-EF89-468C-A760-21AAFEC328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2AD8-37CF-4778-9D1E-8FAF40438F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1" descr=""/>
          <p:cNvPicPr/>
          <p:nvPr/>
        </p:nvPicPr>
        <p:blipFill>
          <a:blip r:embed="rId1"/>
          <a:stretch/>
        </p:blipFill>
        <p:spPr>
          <a:xfrm>
            <a:off x="0" y="5356080"/>
            <a:ext cx="9144000" cy="1517760"/>
          </a:xfrm>
          <a:prstGeom prst="rect">
            <a:avLst/>
          </a:prstGeom>
          <a:ln w="0">
            <a:noFill/>
          </a:ln>
        </p:spPr>
      </p:pic>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9150-0CE7-4C5A-A48F-711A0F69B6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 name="Content Placeholder 6" descr=""/>
          <p:cNvPicPr/>
          <p:nvPr/>
        </p:nvPicPr>
        <p:blipFill>
          <a:blip r:embed="rId2"/>
          <a:stretch/>
        </p:blipFill>
        <p:spPr>
          <a:xfrm>
            <a:off x="0" y="1143000"/>
            <a:ext cx="9144000" cy="449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B921-7EA7-4414-A1F5-AEA3F3E2D7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E451-86A3-4416-9312-1FE65768C3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AC20-085D-4EB2-894A-1DEB184C60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A4F1-6F88-40B6-99D0-554CEE8220D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3T19:04:12Z</dcterms:modified>
  <cp:revision>7</cp:revision>
  <dc:subject/>
  <dc:title>&lt;Title&gt;</dc:title>
</cp:coreProperties>
</file>